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EDCA-1FDC-4E8C-985B-A2294494C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10FD-B559-41B7-AEC1-FECE8F5D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5C1C-B6D2-4C7E-B307-38C7B6915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865F-EAA8-4412-AFA4-F3D325C36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3807-808E-4497-B229-AD527048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FDC2-3C2F-4652-A974-CFDE959D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67AC-D312-43D7-9FC5-C2DC60E5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C3AA-DA3E-4EF6-97CE-C98A82B4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E427-2219-4BEE-A270-BAF6AB08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8A5A-7858-4B6F-B8B0-96FFED4F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7EC9-2BF3-4DF3-90D1-C4EBE845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BDE7-4902-4630-8169-AB609F11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1470-B3E7-40D5-81C7-9DE8DAAB0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05320" y="26668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343400" y="2819520"/>
            <a:ext cx="3597120" cy="817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581280" y="3657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581280"/>
            <a:ext cx="4190760" cy="0"/>
          </a:xfrm>
          <a:prstGeom prst="line">
            <a:avLst/>
          </a:prstGeom>
          <a:ln w="7632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s for 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og has to larger that the height of the letters. Hold the proportion as is. And same the proportionate distance dog from let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download the font (free), make the P and W just slightly taller than the other letters (no more than 2 points larg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the name be our theme website color instead of blac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ight have a less geometric idea for the underli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page, the logo should be positioned flush lef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get the dog clipart at: http://www.clipartof.com/details/clipart/14549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get the Kartoons font at: http://www.1001freefonts.com/outline-fonts-4.p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1T17:51:08Z</dcterms:created>
  <dc:creator>Charles A. Meyer</dc:creator>
  <dc:description/>
  <dc:language>en-US</dc:language>
  <cp:lastModifiedBy>Charles A. Meyer</cp:lastModifiedBy>
  <dcterms:modified xsi:type="dcterms:W3CDTF">2009-11-23T01:44:00Z</dcterms:modified>
  <cp:revision>7</cp:revision>
  <dc:subject/>
  <dc:title>Slide 1</dc:title>
</cp:coreProperties>
</file>