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B67-B288-4393-9663-AA1B4A1E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A36-4E45-4443-A3EE-8DF7467F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198-4027-4145-828F-D5A94A78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D94D-EFB0-46C2-8FD5-623633BE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615-FB04-4AC3-B49D-7F336467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FBB-95F7-40D8-8C3A-E5DC12F7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3D5-8DDF-441C-B4B3-F816F885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581-B185-4872-8750-4A6F1792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46B-DCF7-4CBC-810A-16FFD3BE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367-90B5-4D97-8DFD-AB3B447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F9C-F361-45DC-A5BF-0051ACF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172-4617-4C36-BF69-F5688EE4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BD20-5716-42E9-A86E-96BCA6F78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3597120" cy="817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81280"/>
            <a:ext cx="419076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for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g has to larger that the height of the letters. Hold the proportion as is. And same the proportionate distance dog from le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ownload the font (free), make the P and W just slightly taller than the other letters (no more than 2 points larg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 name be our theme website color instead of bl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have a less geometric idea for the underl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page, the logo should be positioned flush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the dog clipart at: http://www.clipartof.com/details/clipart/1454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the Kartoons font at: http://www.1001freefonts.com/outline-fonts-4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51:08Z</dcterms:created>
  <dc:creator>Charles A. Meyer</dc:creator>
  <dc:description/>
  <dc:language>en-US</dc:language>
  <cp:lastModifiedBy>Charles A. Meyer</cp:lastModifiedBy>
  <dcterms:modified xsi:type="dcterms:W3CDTF">2009-11-23T01:44:00Z</dcterms:modified>
  <cp:revision>7</cp:revision>
  <dc:subject/>
  <dc:title>Slide 1</dc:title>
</cp:coreProperties>
</file>